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6CC-1451-40A6-995F-B1B72DB6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981-5132-4A0B-A60E-683C459A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E58-DEE8-483B-8FC8-2256DEE7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A7E-CD8B-4740-8E11-626C9DDB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000-3D02-413D-9F43-7F5BEB90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E52-6793-479F-A906-7354870D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AFF-00AB-4F8E-90EB-098672FB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329-94C3-4B7D-A210-57FFBA3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83F-B7F9-442F-A220-0F747D48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F64-784B-4828-AB0C-BEF4F629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20E-7ACE-4997-BD92-ECC15B18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75E-5A09-42E2-96C7-0C5FA15F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6D9F-FE49-4BC2-B092-C9A7C061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this bread and this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do as our Saviour comma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elebrate the redem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has won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34:20Z</dcterms:created>
  <dc:creator>Anon Anon</dc:creator>
  <dc:description/>
  <dc:language>en-US</dc:language>
  <cp:lastModifiedBy>Anon Anon</cp:lastModifiedBy>
  <dcterms:modified xsi:type="dcterms:W3CDTF">2005-08-09T05:10:19Z</dcterms:modified>
  <cp:revision>8</cp:revision>
  <dc:subject/>
  <dc:title>PowerPoint Presentation</dc:title>
</cp:coreProperties>
</file>